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4B5-CC4A-4C88-8CFE-044AA635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F4A-CD57-44A5-9BA1-2944EB66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F0B-9BF5-43C4-A5DD-2EF43E84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FE2-DEFD-48F5-915F-5C73394E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024E-0430-44C8-9C84-C228540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73F-D5E8-46AC-A47C-5F7467F2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D64A-9586-4EC6-BF3A-4C0E9BA2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498-DBE6-4156-9D56-0A2C39C0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4C5-F05F-4013-8E39-2505F1DE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7F0B-50AC-4476-AECE-9D1E10B0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BAE-4F92-4400-8FBF-3C11C426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771A-5C9B-4ED0-8881-908650EC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fondoppt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24e"/>
                </a:solidFill>
                <a:latin typeface="Trebuchet MS"/>
              </a:rPr>
              <a:t>Click to edit the title text format</a:t>
            </a:r>
            <a:endParaRPr b="1" lang="en-US" sz="2200" spc="-1" strike="noStrike">
              <a:solidFill>
                <a:srgbClr val="00324e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1" marL="743040" indent="-285840">
              <a:buClr>
                <a:srgbClr val="fb7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2" marL="1143000" indent="-228600">
              <a:buClr>
                <a:srgbClr val="fb7b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3" marL="1600200" indent="-228600">
              <a:buClr>
                <a:srgbClr val="fb7b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4" marL="2057400" indent="-228600">
              <a:buClr>
                <a:srgbClr val="fb7b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5" marL="2057400" indent="-228600"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  <a:p>
            <a:pPr lvl="6" marL="2057400" indent="-228600"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75640" y="6048000"/>
            <a:ext cx="50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8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248C-75D4-4D49-8372-AFE551DA6A41}" type="slidenum">
              <a:rPr b="1" lang="en-US" sz="1400" spc="-1" strike="noStrike">
                <a:solidFill>
                  <a:srgbClr val="008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0"/>
          <p:cNvSpPr/>
          <p:nvPr/>
        </p:nvSpPr>
        <p:spPr>
          <a:xfrm>
            <a:off x="2411280" y="6438960"/>
            <a:ext cx="4572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arch. Gilberto A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1"/>
          <p:cNvSpPr/>
          <p:nvPr/>
        </p:nvSpPr>
        <p:spPr>
          <a:xfrm>
            <a:off x="28440" y="6453360"/>
            <a:ext cx="2016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Provincia di A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7135920" y="6453360"/>
            <a:ext cx="20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rebuchet MS"/>
              </a:rPr>
              <a:t>Progetto SOF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provincia asti"/>
          <p:cNvPicPr/>
          <p:nvPr/>
        </p:nvPicPr>
        <p:blipFill>
          <a:blip r:embed="rId3"/>
          <a:stretch/>
        </p:blipFill>
        <p:spPr>
          <a:xfrm>
            <a:off x="181080" y="6400800"/>
            <a:ext cx="214200" cy="31284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logo sofis"/>
          <p:cNvPicPr/>
          <p:nvPr/>
        </p:nvPicPr>
        <p:blipFill>
          <a:blip r:embed="rId4"/>
          <a:stretch/>
        </p:blipFill>
        <p:spPr>
          <a:xfrm>
            <a:off x="7192800" y="6410160"/>
            <a:ext cx="287640" cy="27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250920" y="1197000"/>
            <a:ext cx="864216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Il procedimento semplificato di autorizzazione paesaggistica per gli interventi di lieve entità</a:t>
            </a:r>
            <a:r>
              <a:rPr b="0" lang="en-US" sz="2600" spc="-1" strike="noStrike">
                <a:solidFill>
                  <a:srgbClr val="1f497d"/>
                </a:solidFill>
                <a:latin typeface="Trebuchet MS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Trebuchet MS"/>
              </a:rPr>
              <a:t>(art. 1 c. 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411280" y="6357960"/>
            <a:ext cx="457200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Asti, 24 settem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28520" y="6396120"/>
            <a:ext cx="201636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ovincia di A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948360" y="6424560"/>
            <a:ext cx="2016360" cy="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Trebuchet MS"/>
              </a:rPr>
              <a:t>Progetto SOF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3419640" y="476280"/>
            <a:ext cx="2016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Trebuchet MS"/>
              </a:rPr>
              <a:t>Sem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7" descr="logo sofis"/>
          <p:cNvPicPr/>
          <p:nvPr/>
        </p:nvPicPr>
        <p:blipFill>
          <a:blip r:embed="rId1"/>
          <a:stretch/>
        </p:blipFill>
        <p:spPr>
          <a:xfrm>
            <a:off x="7682040" y="5978520"/>
            <a:ext cx="419040" cy="399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8" descr="logo_provincia asti"/>
          <p:cNvPicPr/>
          <p:nvPr/>
        </p:nvPicPr>
        <p:blipFill>
          <a:blip r:embed="rId2"/>
          <a:stretch/>
        </p:blipFill>
        <p:spPr>
          <a:xfrm>
            <a:off x="900000" y="5950080"/>
            <a:ext cx="3114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447840" y="981000"/>
            <a:ext cx="815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puntuali di adeguamento  della viabilità esistente, quali: adeguamento di rotatorie, riconfigurazione di incroci stradali, realizzazione di banchine e marciapiedi, manufatti necessari per la sicurezza della circolazione, nonchè   quelli relativi alla realizzazione di parcheggi a raso a condizione che assicurino la permeabilità del suolo, sistemazione e arredo di  aree ver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di allaccio alle infrastrutture a rete, ove comportanti la realizzazione di opere in sopras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42800" y="993600"/>
            <a:ext cx="67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66840" y="4630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8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447840" y="1155600"/>
            <a:ext cx="8156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linee elettriche e telefoniche su palo a servizio di singole utenze di altezza non superiore, rispettivamente, a metri 10 e a metri 6,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adeguamento di cabine elettriche o del gas, ovvero sostituzione delle medesime con altre di tipologia e dimensioni analog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terventi sistematici di arredo urbano comportanti l'installazione di manufatti e componenti, compresi gli impianti di pubblica illumin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366840" y="1147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9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68280" y="2975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0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68280" y="43657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1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47840" y="620640"/>
            <a:ext cx="844524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stallazione di impianti tecnologici esterni per uso domestico autonomo, quali condizionatori e impianti di climatizzazione dotati di unità esterna, caldaie, parabole, antenne (la presente  voce non si applica agli immobili soggetti a tutela ai sensi dell'art.136, comma 1, 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parabole satellitari condominiali e impianti di condizionamento esterni centralizzati, nonchè impianti per l'accesso alle reti  di comunicazione elettronica di piccole dimensioni con superficie non superiore ad 1mq o volume non superiore ad 1 mc  (la presente voce non si applica agli immobili soggetti a tutela ai sensi dell'art.136, comma 1, 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68280" y="635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2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68280" y="31417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3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447840" y="115560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stallazione di impianti di radiocomunicazioni elettroniche mobili, di cui all'art. 87 D.Lgs. 259/2003, che comportino la realizzazione di supporti di antenne non superiori a 6 metri se collocati su edifici esistenti, e/o la realizzazione di sopralzi di infrastrutture esistenti come pali o tralicci, non superiori a 6 metri, e/o la realizzazione di apparati di telecomunicazioni a servizio delle antenne, costituenti volumi tecnici, tali comunque da  non superare l'altezza di metri 3 se collocati su edifici esistenti e di metri 4 se posati direttamente  a t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368280" y="11700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4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47840" y="851040"/>
            <a:ext cx="844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stallazione in soprasuolo di serbatoi di GPL di dimensione non superiore a 13 mc, e opere di recinzione e sistemazione corre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mpianti tecnici esterni al servizio di edifici esistenti a destinazione produttiva, quali sistemi per la canalizzazione dei fluidi mediante tubazioni esterne, lo stoccaggio dei prodotti e canne fum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posa in opera di manufatti completamente interrati (serbatoi,cisterne etc.), che comportino la modifica della morfologia del terreno, comprese opere di recinzione o sistemazione corre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68280" y="851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5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68280" y="22417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68280" y="408636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47840" y="851040"/>
            <a:ext cx="8445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pannelli solari, termici e fotovoltaici fino ad una superficie di 25 mq (la presente voce non si applica nelle zone territoriali omogenee "A" di cui all'art. 2 D.M. 2 aprile 1968, n. 1444, e ad esse assimilabili, e nelle aree vincolate ai sensi dell'art. 136, comma 1, lettere b) e c), del  Codice), ferme restando le diverse e più favorevoli previsioni del D.Lgs. 115/2008, e dell'art. 1, comma 289,  della  L. 244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68280" y="851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8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47840" y="851040"/>
            <a:ext cx="84452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nuovi pozzi, opere di presa e prelievo da falda per uso domestico,  preventivamente  assentiti  dalle Amministrazioni competenti, comportanti la realizzazione di manufatti in soprasuol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tombinamento parziale di corsi d'acqua per tratti fino a 4 m ed esclusivamente per dare accesso ad abitazioni esistenti e/o a fondi agricoli interclusi, nonchè la riapertura di tratti tombinati di corsi d'acq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di ripascimento localizzato di tratti di arenile in erosione, manutenzione di dune artificiali in funzione antierosiva, ripristino di opere di difesa esistenti sulla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68280" y="8510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9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68280" y="2425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0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68280" y="44449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1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447840" y="982800"/>
            <a:ext cx="84452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ipristino e adeguamento funzionale di manufatti di difesa  dalle acque delle sponde dei corsi d'acqua e dei lag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taglio selettivo di vegetazione ripariale presente sulle sponde o sulle isole fluv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iduzione di superfici boscate in aree di pertinenza di immobili esistenti, per superfici non  superiori  a  100  mq,  preventivamente assentita dalle amministrazioni compe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68280" y="9810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2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68280" y="236376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3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68280" y="37321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4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447840" y="692280"/>
            <a:ext cx="8445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ipristino di prati stabili, prati pascolo, coltivazioni  agrarie tipiche, mediante riduzione di aree boscate di recente formazione per superfici non superiori a 5000 mq, preventivamente assentiti  dalle amministrazioni compe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taglio di alberi isolati o in gruppi, ove ricompresi  nelle  aree di cui all'art. 136, comma 1, lettere c) e d), del Codice, preventivamente assentito dalle amministrazioni compe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manufatti realizzati in legno per ricovero attrezzi agricoli, con superficie non superiore a 10 m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8280" y="6922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5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8280" y="29844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68280" y="4819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447840" y="1328760"/>
            <a:ext cx="8445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occupazione temporanea di suolo privato, pubblico, o di uso pubblico, con strutture mobili, chioschi e simili, per un periodo superiore a 120 gior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strutture stagionali non permanenti collegate ad attività turistiche,  sportive  o del tempo libero, da considerare come attrezzature amovi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368280" y="13446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8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68280" y="318600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9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447840" y="1658880"/>
            <a:ext cx="8156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Trebuchet MS"/>
              </a:rPr>
              <a:t>1.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cremento  di  volume  non  superiore  al  10  per  cento  della volumetria della costruzione originaria e comunque  non  superiore  a 100 mc. (la presente voce non  si  applica  nelle  zone  territoriali omogenee "A" di cui all'art. 2 D.M. 2  aprile 1968, n. 1444, e ad esse assimilabili  e  agli  immobili  soggetti  a tutela ai sensi dell'art. 136, comma 1, lettere a), b) e c),  del Codice).  Ogni  successivo  incremento  sullo  stesso   immobile   e'sottoposto a procedura autorizzatoria or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42800" y="16542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447840" y="1197000"/>
            <a:ext cx="8156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di demolizione  e  ricostruzione  con  il  rispetto  di volumetria e sagoma preesistenti. La presente  voce  non  si  applica agli immobili soggetti a tutela ai sensi dell'art. 136, comma  1,lettere a), b) e c), del Codi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3366"/>
              </a:buClr>
              <a:buFont typeface="Trebuchet MS"/>
              <a:buAutoNum type="arabicPeriod" startAt="2"/>
              <a:tabLst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di demolizione senza  ricostruzione  o  demolizione  disuperfetazioni  (la  presente  voce  non  si  applica  agli  immobilisoggetti a tutela ai sensi dell'art. 136, comma 1, lettere a), b)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42800" y="11970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2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42800" y="34434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3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447840" y="981000"/>
            <a:ext cx="81565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sui prospetti degli edifici esistenti, quali:  aperture di  porte  e  finestre  o  modifica  delle  aperture  esistenti   per dimensione  e  posizione;  interventi  sulle  finiture  esterne,  con rifacimento  di  intonaci,  tinteggiature o rivestimenti   esterni,modificativi di quelli  preesistenti; realizzazione  o  modifica  di balconi o terrazze; inserimento o modifica di cornicioni,  ringhiere,parapetti; chiusura di terrazze o di balconi già chiusi su tre  lati mediante  installazione di infissi;   realizzazione, modifica o sostituzione di scale esterne (la presente voce non si  applica  agli immobili soggetti a tutela  ai  sensi  dell'art.  136,  comma  1,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442800" y="9810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4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47840" y="1197000"/>
            <a:ext cx="815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 sulle  coperture  degli  edifici  esistenti, quali: rifacimento del manto del tetto  e  delle  lattonerie  con  materiale diverso; modifiche indispensabili per l'installazione di impianti tecnologici; modifiche alla inclinazione o alla configurazione  delle falde; realizzazione di lastrici solari o terrazze a tasca di piccole dimensioni; inserimento di canne fumarie o comignoli; realizzazione o modifica di finestre a tetto e lucernari; realizzazione di abbaini o elementi consimili (la presente voce non si applica agli immobili soggetti a tutela ai sensi dell'articolo 136, comma 1, lettere a), b)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442800" y="11970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5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447840" y="404640"/>
            <a:ext cx="83721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modifiche  che  si  rendono  necessarie per l'adeguamento alla normativa antisismica ovvero per il contenimento dei consumi energetici degli edif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ealizzazione o modifica di autorimesse  pertinenziali, collocate fuori terra ovvero parzialmente o totalmente interrate, con volume non superiore a 50 mc, compresi percorsi di accesso ed eventuali rampe. Ogni successivo intervento di realizzazione  o modifica di autorimesse pertinenziale allo stesso immobile è sottoposto a procedura autorizzatoria ordin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ealizzazione  di  tettoie,  porticati,  chioschi  da  giardino  emanufatti consimili aperti su piu' lati, aventi  una  superficie  nonsuperiore a 30 m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42800" y="40464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42800" y="191628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7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442800" y="4890960"/>
            <a:ext cx="44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8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447840" y="1197000"/>
            <a:ext cx="8156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realizzazione di manufatti accessori o volumi tecnici di piccole dimensioni (volume non superiore a 10 mc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Trebuchet MS"/>
              </a:rPr>
              <a:t>interventi necessari al superamento delle barriere architettoniche, anche comportanti modifica dei prospetti o delle pertinenze esterne degli edifici, ovvero realizzazione o modifica di volumi tecnici. Sono fatte salve le procedure semplificate ai sensi delle leggi speciali di settore (la presente voce non si applica agli immobili soggetti a tutela  ai  sensi  dell'art.  136,  comma  1,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442800" y="1197000"/>
            <a:ext cx="44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9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6840" y="256536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0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47840" y="692280"/>
            <a:ext cx="81565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realizzazione o modifica  di cancelli, recinzioni, o muri di contenimento del terreno (la  presente  voce  non  si  applica  agli immobili soggetti a tutela ai sensi dell'art. 136, comma 1, lettere a), b) e c), del Codi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terventi di modifica di muri di cinta esistenti  senza incrementi di alt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interventi sistematici nelle aree di pertinenza di edifici esistenti, quali: pavimentazioni, accessi pedonali e carrabili di larghezza non superiore a 4 m, modellazioni del suolo, rampe o arredi fissi (la presente voce non si applica agli immobili soggetti a tutela ai sensi dell'art. 136, comma 1, lettere a), b) e c), del Cod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66840" y="6922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1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68280" y="270036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2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68280" y="37702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3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447840" y="765000"/>
            <a:ext cx="81565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realizzazione di monumenti ed edicole funerarie all'interno delle zone cimiteria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posa in opera di cartelli e altri mezzi pubblicitari non temporanei di cui all'art. 153, comma 1 del Codice, di dimensioni inferiori a 18  mq, ivi comprese le insegne per le attività commerciali o pubblici esercizi (la presente voce non si applica agli immobili soggetti a tutela ai sensi dell'art. 136, comma 1, lettere a), b) e c) del Codi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collocazione di tende da sole sulle facciate degli edifici per locali destinati ad attività commerciali e pubblici eserci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ttangolo 3"/>
          <p:cNvSpPr/>
          <p:nvPr/>
        </p:nvSpPr>
        <p:spPr>
          <a:xfrm>
            <a:off x="14940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rebuchet MS"/>
              </a:rPr>
              <a:t>ALLEGA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66840" y="76032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4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8280" y="184464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5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68280" y="4792680"/>
            <a:ext cx="600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50000"/>
              </a:lnSpc>
              <a:tabLst>
                <a:tab algn="l" pos="0"/>
                <a:tab algn="l" pos="304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16.</a:t>
            </a:r>
            <a:r>
              <a:rPr b="0" lang="en-US" sz="2000" spc="-1" strike="noStrike">
                <a:solidFill>
                  <a:srgbClr val="003366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13:17Z</dcterms:created>
  <dc:creator>d6002</dc:creator>
  <dc:description/>
  <dc:language>en-US</dc:language>
  <cp:lastModifiedBy>buttigliera</cp:lastModifiedBy>
  <dcterms:modified xsi:type="dcterms:W3CDTF">2010-09-22T12:47:41Z</dcterms:modified>
  <cp:revision>208</cp:revision>
  <dc:subject/>
  <dc:title>Diapositiva 1</dc:title>
</cp:coreProperties>
</file>